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B50-7C56-421B-81DA-44F57ED901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itical to Web Project – Faculties are the corner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262-6244-46B1-B74F-6132BDEAF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890-8E08-41BD-95F9-E4F1576B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3F7-D845-4023-8023-85C8E95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236-48E3-4D13-8FE5-3DA5C3E2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722-DF48-4E8E-B9BF-59C062EB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C477-E58D-461D-91A0-793162CB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F87F-7CF4-47EA-8E5F-8E04772B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BC2-81CD-49B9-AD9E-FE9D2678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04AE-F8FC-41FD-BB7B-5BB9F5F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74FB-677E-499D-B000-24E60029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7027-3991-413A-AC61-05F64662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7D8E-FEF6-4D65-8AC4-B2225B1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B95-144D-4E14-A166-14D5174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A6B-C2B0-4398-8392-B42A687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608-77AF-4C30-9A70-F116ED1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5CC2-8AB1-4014-9F72-34FD14D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F24C-D2FE-4732-A1F6-57FE120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A3D-E656-457E-81FC-4CBF3090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0314-E746-43AA-8680-8C20432B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2C9A-F336-436A-AFD8-506FB55A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D342-537A-4866-95BD-876AAC7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6E0E-775B-4B3E-8B83-63D04AE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9A63-DAA1-496A-AB8F-02F4CC0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38D-79D7-4C49-A9A2-A270441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94DA-F9C3-49B3-84B3-2589D6F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1716-8343-408A-9FAA-72C1476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F5D1-A7C8-4775-8017-0DDEA52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AB60-660B-485B-BDC2-0DFA59A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1AA8-7CC7-4AFC-A163-C65D776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0F79-588A-42AC-BFD4-973F99B3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F1B1-5E8C-4AEB-9E66-F39435B1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1BB6-6C8C-4B32-A3EA-277C7107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6342-C8A1-44B4-9237-863B86D2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16C5-4107-4048-A5E9-B71169E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1D2-215E-41A3-A167-18874C00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A062-D4F9-4C17-8C7A-88A2610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8A205-32DF-44CD-86CE-0C09FC8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691D-853C-4C42-96D1-1F10622D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9C95-7C4A-4532-BA79-8585A64E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CA9E-BA6B-456B-B1D4-C46A827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9A1F-36F8-4223-8484-6279B2B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786B-58D1-47D0-8A55-F64C5F22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0C6C-12BD-4B29-89BA-20FF636B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ACAD-5DD0-4992-84B9-5E38EE34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65C-5A88-4B25-873E-438C7D39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CC1-6637-4F1D-99E3-AA66613B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D9C-3193-4D3D-B3A1-DB9B913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061-D6D0-4C78-9B53-27D9034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A76-A601-47FE-AF9F-8369C64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CAA4-B36B-42D9-A085-BD7FBCB77F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C3C-CF81-4182-B858-9CDE93D0D7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5A8-9503-4D7D-84E1-3A8177F54F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24D-0B62-46F2-90E3-10E4FA039A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la"/>
              </a:rPr>
              <a:t>Corporate web updat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62626"/>
                </a:solidFill>
                <a:latin typeface="Arila"/>
              </a:rPr>
              <a:t>Andy Simmons</a:t>
            </a: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62626"/>
                </a:solidFill>
                <a:latin typeface="Arila"/>
              </a:rPr>
              <a:t>Content Manager</a:t>
            </a: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62626"/>
                </a:solidFill>
                <a:latin typeface="Arila"/>
              </a:rPr>
              <a:t>University Marketing</a:t>
            </a: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8" name="Content Placeholder 9" descr="recent_work_in_progress_example.jpg"/>
          <p:cNvPicPr/>
          <p:nvPr/>
        </p:nvPicPr>
        <p:blipFill>
          <a:blip r:embed="rId1"/>
          <a:stretch/>
        </p:blipFill>
        <p:spPr>
          <a:xfrm>
            <a:off x="-8100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la"/>
              </a:rPr>
              <a:t>Course profiles – next step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Agree requirements for enhanced course profile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ork with the Business Improvement Team to develop the web publishing module of Campus Solution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ork with content owners to improve content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liver a flexible, institution-wide solution for course profiles</a:t>
            </a:r>
            <a:r>
              <a:rPr b="0" lang="en-GB" sz="1600" spc="-1" strike="noStrike">
                <a:solidFill>
                  <a:srgbClr val="000000"/>
                </a:solidFill>
                <a:latin typeface="Aril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268200" y="1457280"/>
            <a:ext cx="84916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la"/>
              </a:rPr>
              <a:t>Template upgrad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he corporate site is running templates that are seven years ol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he new Humanities and EPS templates have been built using the latest web standards (HTML5 and CSS3), but the corporate site has fallen behind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he existing templates look dated and restrict our options in terms of development and design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3" name="Content Placeholder 4" descr="rae-before.jpg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5" name="Content Placeholder 4" descr="rae-af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la"/>
              </a:rPr>
              <a:t>Template upgrade benefit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HTML5 and CSS3 – simpler web development and more innovative design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entre-aligned pages – first step towards responsive design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One set of templates in use across corporate and new Humanities sites – more consistent user experience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Other benefits – advanced Google Search Appliance features (search suggestions, search refinements etc), integrated HTML5 video delivery, integrated use of web fonts, simplification of page construction and rationalisation of sections within T4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la"/>
              </a:rPr>
              <a:t>Course profile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One of the most crucial areas of our content – key factor in deciding whether to choose to study at Manchester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sed in different ways at different stages of the decision-making proces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nchanged for a number of years due to perceived inflexibility of Campus Solutions.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1" name="Content Placeholder 3" descr="early_example.jpg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5:56:20Z</dcterms:created>
  <dc:creator>MZYSSPB2</dc:creator>
  <dc:description/>
  <dc:language>en-US</dc:language>
  <cp:lastModifiedBy>mjrssfc</cp:lastModifiedBy>
  <dcterms:modified xsi:type="dcterms:W3CDTF">2013-04-16T12:13:11Z</dcterms:modified>
  <cp:revision>35</cp:revision>
  <dc:subject/>
  <dc:title>Slide 1</dc:title>
</cp:coreProperties>
</file>